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2A3-8304-45A3-BCD7-E61FD9C2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664524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03A-CDE2-4CDE-AB2E-03A7FEA2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66A-6074-434E-8E0C-31824C55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1640" y="449568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1640" y="6645240"/>
            <a:ext cx="28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722-C6E5-4AC8-9FA5-A77AF3D1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785-DBAD-4081-BD45-7FFFF011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BFA-1FC3-482B-A048-87B7D03F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642-D902-49F4-8E64-B59AA117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B08-E7C5-4271-A09F-35D30443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2666520"/>
            <a:ext cx="8991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B22-99AA-4645-B6D9-E196E821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062-4493-470F-9740-EBB4D2A9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664524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E42-3DE3-497B-BEE4-561915E8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4495680"/>
            <a:ext cx="4313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6645240"/>
            <a:ext cx="883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80AA-BA86-4127-8D57-681309A4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BC9E-30FA-479A-847D-0B9A19ECE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user #10291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acryocystiti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mv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p of selden new york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abiesru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pool toy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andbox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ig island of hawaii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Ezpas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jones beach concert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icketmast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uy vicodi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pamalot broadwa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wicked broadwa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wax museum nyc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rugtest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ow long drugs stay in syste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he drug hash how long does it stay in body syste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ischarge of clear fluid sack not pregnan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ovarian cys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lood work cbc wbc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normal white blood count for human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un dresses for toddler girl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white blood count with kidney stone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white blood count with leukemia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tlantis bahama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ap of st. lucia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andles in st. lucia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re kidney stones infections. do kidney stones raise your wbc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Verizonwirelessringtone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motorola razor phone recall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lood in uri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an cat scan see bladder canc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he trop atlantic ci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an vicoden or percocet make blood in urin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uterine fibroids and bladder pressur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ladder polyp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jogging stroll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old hoop earing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eal or no deal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la weight los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2 year old and lazy eye turns outwards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gastric bypass surger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symptoms of bladder canc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Oshkosh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ladder infectio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elebrity cooking showdown vot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merican idol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on jovi tickets giant stadium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ata processors needed from hom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ilton hawai village honolulu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iabetes die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est bu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Clindamyci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eart fluttering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Lanebryan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Pennicillia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pulmonary diseas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elefloris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eart murmer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heart skips a beat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diabetes and fast pulse or skip heart beat choking feeling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user #10291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billy joel madison square garde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two year old with lazy eye red in inner corner of ey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inner corner of eye is red swollon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4495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7-05-10T20:51:24Z</dcterms:modified>
  <cp:revision>22</cp:revision>
  <dc:subject/>
  <dc:title>PowerPoint Presentation</dc:title>
</cp:coreProperties>
</file>