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E57-3178-4134-8CA8-773A4FCA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664524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39D-7168-4215-8A86-D4899598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953-8209-422E-8AB8-BCB4D193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64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64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3DD-9DF0-42A0-B3FF-17152A8F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1B8-FE3E-42E8-B7D8-1E43F21B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71F-BA82-416C-99A7-4FF6A51E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42B-3F28-4CC7-8CC9-401B946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27C-840B-4995-9B58-FC4FF0E0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266652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FF6-7E5A-4A55-B712-27FCA83F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BD0-0852-45F2-A8B1-C98BDF4F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95A-7C95-4408-A6F0-9F8BEC30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97D-3868-478A-BC72-7D4B0A6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B33D-1603-4BFD-AF15-7F6C0DC26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ser #2708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&lt;name deleted&gt;’s sampl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tories or samples of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encyclopedia of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voice chang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nderground help for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elp for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real-time sp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ss lotter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&lt;deleted&gt; home servic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humiliate some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revenge tactic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d's to order and bu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12 cd's for the price of 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ill me pay later for cd'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cams to play on peop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playing tricks on some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humiliate some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make someone misreab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drive someone craz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get revenge on an old lov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i hate my ex boyfrien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rblehead massachusetts librar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really make someone hurt for the pain they caused to someone els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&lt;name deleted&gt;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hings to send to emails that are fre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free email address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ogle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olumbia hous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og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free porn mpeg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ww.pseudomailer.co.uk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&lt;address deleted&gt;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he woman's book of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p ques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names of dog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verizon.n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dvice on how to get revenge on an old lov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ate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dvice from women who have seeked revenge on old lover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og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name search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tmail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ogl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torment someo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en's voic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ownload men's voic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2666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sweat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52280" y="2666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suffer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pay.co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sweat.n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kehimpay.n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ettingrevenge.n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 desert terrain where fifteen different salts crunch underfoot where is this plac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to say goodbye hurtfully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lt.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irty tricks for chick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out of business by dennis fieri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21st century reveng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7-07-20T16:28:07Z</dcterms:modified>
  <cp:revision>25</cp:revision>
  <dc:subject/>
  <dc:title>PowerPoint Presentation</dc:title>
</cp:coreProperties>
</file>